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A77-532A-45FC-89A2-1B72C07B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5A7-CB57-41D6-9CEF-EDE1708C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F54EF-E0C9-4026-BC72-06FC4331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48C5-558B-4E2E-B812-7DD784C7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F8A7B-B6EC-4717-829D-173E8B9F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3BFDB-FF22-4AF3-817D-DBA1526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57B0C-2E73-4015-A8CC-2CDFE86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3AADC-03C7-4B26-A9B9-FA5BF10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D680B-6E66-49DF-BDEA-7A39EEB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F3020-2615-44F0-BB65-DCC2C2A6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AC3D9-D1BB-463D-B80B-39F608B1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6A4C8-A8A6-4D6F-A1FA-4A76EDEC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7D4-E45E-413A-A629-C05226AF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8428E-B0F7-45F5-BA63-38F0085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451F0-67FD-4828-9011-E4A5CAA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C749A-CC6F-4E54-B692-9826A40D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0E2C-5DBC-4371-B9CB-2075896E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3068C-A264-40C7-B6DE-3A27C3BE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17986-9AEA-4323-A74A-61DA5EE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973F7-DF5A-4F5F-9CE6-9ADFA33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BBAF9-46C1-4420-AFF4-229E59A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FA086-6435-4B6E-ACC3-21051C2F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8FEDD-8869-42D4-8D09-AFF2F81C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3C8-44AC-4A17-B0C2-B29E353A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C7CCD-6FA6-4A08-97B6-41A955C7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6568A-87CD-4A07-B401-48B667BB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6A7D7-E1DE-45FC-AE9C-EC67E7C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63EC6-3143-4A68-B3B5-964D143A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FB20B-1942-479B-B80B-643F660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03C39-BEB0-4C23-9BA4-90E27D0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E2B2E-68CF-4674-A0B7-7F6C48F3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74EE-1E8A-46A8-8ABB-4E6619C7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030E-34F6-4987-BC00-37AB8D38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3B377-D683-4155-B988-130C3A9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AF49-D553-4929-93A1-20C03733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024BD-32E0-459B-AFB8-8087DB1D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A0D89-0FF3-4A31-98A5-40EA4D40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93296-A50C-45B0-85DB-018CD23C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F677D-AF1A-4187-B3C2-2CB9325B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9F12D-6D2E-45DD-8D0C-F34B48CA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B85D1-5A25-4333-9422-3706830B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B0F0A-C478-4530-8511-7DEEBB0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80ECB-0BBE-4E38-A905-B2B012A1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174A4-0984-4CEF-933D-87B45929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2F69A-97DD-4A43-876A-6D42187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CF58-DD93-4533-A64A-1341F8B3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4629D-632A-4587-9519-1989BBD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EAE64-AF5F-4E47-9259-E409AB97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9116D-814B-4026-86BC-E8E42D9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BE6CB-E515-47F6-95EE-43956BC2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66D62-5B4E-48E6-87EF-3609E193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30C33-7BE2-4396-B494-36747C5A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9AABB-C676-4A03-957D-4310981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4AC56-A149-4A64-B129-A8068BFD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602AC-180C-421C-A1F3-D3AEAA5B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1BF2F-B7C1-41E1-86DB-9EA4B666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5C2E-3A49-4700-8197-1BA7ACA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C508D-66A7-4ED4-8E9F-F777A624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38F34-98A6-42D6-917C-104C2F0B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02D96-9415-4688-813F-A998F7A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C8A12-AA35-4029-95C8-3C07BCA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F2EEF-9A11-43EC-80F9-AA9A96A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84686-9B06-4EA5-B390-1AC52EC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2F54A-D64D-4428-8FB8-5F26A4A0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1F8A1-DB4B-4EBE-90A6-EEBC6ED1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E8A2E-6956-45C7-8B24-3796EDB9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BBA62-BF65-41CF-867E-80A8D38F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68F4-72AC-4DF9-B345-8040ED89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5208A-5A51-4F7E-82B6-F6EA79AC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12C77-68BA-4043-83AD-6430421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317C0-7715-41F1-8A5B-EB66EB4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AAD3E-F112-4D62-963C-FC353EC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121F2-C1EE-4BD0-8DD5-D0205549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F36A0-B357-4E19-903A-37F1274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7BB8E-CCAF-4357-8E60-EB9CE8B8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86401-C20B-4356-A377-DC9B8CF7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D99B7-5822-4AAE-AEC9-4B2941EB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10E10-62C8-4AD3-8033-0E07AAC7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30B-DE20-4B82-9F3B-53307317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1BE56-1470-459A-A3E2-2D13EF4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78362-39B8-4348-8E77-E047CA08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D9B94-44EB-485D-8454-5D60C2A1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82FA4-64DA-4698-8C20-B9C4E6E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1E337-D69E-4426-9379-00429A3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69F60-E717-42B7-9E89-C4F81852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714CA-0653-4886-BCD4-DE43790C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D0BC7-10DA-4BC2-A15E-B9FABD3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25915-FA98-4D3B-8158-359F9CB5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D0B85-D642-4552-B392-525D8299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1667-BA2D-47C6-ACFF-8F4258B3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B96B0-E19C-4007-8DC5-3AE02003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E52A8-0A1F-4AB6-87DC-422A9E21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43171-B6CA-46C9-B1A7-124B007A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54B52-7E49-4BB8-A27E-C3BACF4F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B3929-8C89-43F5-BCA2-8267FDD8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87BAE-C62F-4F2C-A4B8-86099A3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39C94-37F4-4BDE-8F69-4F952EE3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32FFE-06AA-4DA7-B2BB-C6B8F3A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C9F72-BBE9-4987-99C1-01555EB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2CA64-B3F8-4224-8898-9CD99FE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48D2-E15E-413E-8F6F-24053921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14521-59D5-47B9-9BA2-97E9431B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8A161-F70B-436A-9DC5-B41A4743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CED30-1CCC-4BCE-B079-CC72B1E9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24EED-35BB-4BA8-96B7-90068D39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80ED9-05A9-46A1-B390-892E6205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1179F-7DD3-432C-B3A4-4A2BC16A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C288D-A7CF-4890-861A-E17BD1B8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436F7-7F12-4511-A817-23F5B3C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7732F-7FF1-48B0-AC74-E3CD280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E87EF-95C3-497B-B8A6-4EB1E44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8C5-0BDF-434C-96C1-AC23215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E460-DAFA-41B4-A60D-AAC2D498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F5797-BCE2-4905-B7A4-A0C95CD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F4E7E-7B3C-41B8-A85B-BBE36522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17D83-9B1F-42B9-9D4B-D803ACBB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BA622-A736-4607-BE84-6C93FC4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5C04F-04CF-4154-AB41-6B558F42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4D8AE-8E30-44E7-AE26-1908F920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8C8FE-FF5D-47F5-AD5B-CF2DE4F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BDC13C-7AE3-4D74-90CD-1AB26C32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5848D-2780-4341-89B5-C492185C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62DCC-7685-4A7E-A5D6-2FEA9D7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4E0F-62B8-4930-AB2D-1EBEBBA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CE341-C721-4D7B-A1F2-35909746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19B7F-7CAF-4D85-9C8E-8F6D94F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F1F4A-BFC9-4D58-9199-0B164D7C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9037E-1F1C-4611-B1EB-6516F56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612BC-72AC-48D2-B94B-C414AE2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959C4-4B97-4CC3-9CDB-6B6DAE78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F814A-5C93-4F04-A74C-91E96C31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58F1-8756-4911-9FAC-350681E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A1B4-5F3D-4E9B-974D-8C0A2F20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143-621A-4653-9010-38E217A7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E101-DAD5-419E-AE89-0084C7D4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5F95-946E-410C-A27D-C27DF5D5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49F0-AF5A-449F-ACE3-96A751C8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FF3F-630B-4008-B5C4-CFDBBD14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1E23-1159-409B-8242-66A2CF1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8D3-B635-431A-8E45-B633F8D1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BCB6-50E3-4FAD-BF6C-546BEA0E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5678-309D-4278-8262-5587119C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661B-87D8-4A47-9B50-D9797DA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BD0C-46E1-488B-919A-5AE3623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6041-D903-4C8E-B82D-891430D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2DB6-2136-4081-B551-43E113F1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4AFF-CC4B-4CA0-9A48-C6DE5633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0B5E9-CE12-40E6-98DF-23FF4366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E72B-12E9-417F-9B21-87DE64A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B224-DEAB-4361-B279-261B40F7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261-CAE7-4F9B-B477-BD65E7D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BFF9-14D2-497C-8F19-50DF7BF4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13C7-AB6E-4D40-B100-7514B222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2436-25AF-4FBA-9414-5245CC76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A08D2-3282-4F82-96EA-E107B9C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1D87-D3E3-44F2-BA30-EA2AC39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35D1-4DA8-4FB0-ADF6-9DACB5D2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FB88-3F1F-4CFD-8611-3A17167B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36EF-96AA-46D6-952E-EB289DF1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1754-8B2C-48BE-8D1A-96E3A623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C3942-5E17-48AD-BBF2-7AD28205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9B3-08C0-4F61-A744-49E16673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FD9B-5CDA-40C9-9B72-6F7CA5BD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9F7D-660F-4E3D-9672-D348415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BF070-2413-43F6-86BE-1DD82CE7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4288-2CDC-4578-800C-A201C17F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FD4B-85AA-414C-9B48-F2670CD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CE54C-0990-4592-9B4C-6810631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0CEC-EBBC-4045-9EBD-FCB4947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0FC0-7C6E-471C-9B43-F23D5DE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9B76-BB5B-4EE4-97EB-05F4903E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00C4E-83BD-4FEF-8AAC-533F6D7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5F7-B4CF-4E9D-8062-ECCFDEB5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B8E43-0B8C-4194-8EE0-635A65A8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356B-379D-4FA8-8AED-4D002FB8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5597-1EED-4110-A10A-3CF3D4F1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BFBF6-A077-4C2F-AFA6-59B72294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9709F-43B6-46D8-BE9B-593CB224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252F-7FE2-4CC8-9978-3B07CD39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6C89-DFB5-4463-9768-DEE03547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AB06-46F7-43CA-A0BB-FB1DEA4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951B8-EF19-4EE4-8355-F4CEB80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58DB-50DD-4515-9B51-628432D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F46-5D65-41D1-A0DB-282F74D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5490F-F196-4494-8E43-71E37888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CDC2-0848-45BE-BA2E-FB0BC233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6FBA-B8C0-47C9-89FA-E4E689A5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7050D-B3C2-4061-A9F9-EF6A7D08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48055-D27F-4F56-B495-B6030D4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87D1-238C-45E3-93B1-CAA8FC68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D3C50-67BE-4AC1-BDEE-8E3B895C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70E0-ACD2-4647-A2F2-6C6C5814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B17C-BC4D-45B5-A900-AD127DED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F8D6B-C948-42A9-BF82-2B893B3D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F4B-5492-4DF9-8B5C-048B2447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BBF21-2BCD-4725-B43E-A07ECDF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F0AC4-B8F3-4BDE-9456-61B500CC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D968-56A9-40CA-A1F1-114A936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E834-09BF-454C-AB25-40CF1B0B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C242-F253-43EB-BC93-C9240E8B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BFF17-8857-4D2E-9DA7-17B625DD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2B5A-E274-4BDA-9391-D29C5CF6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FD420-5CCE-4411-8ECE-EEB3CFB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4B527-B0E1-47EB-9F08-3B7883A1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9AE4-8AC0-4B86-BFDC-8C3AD34C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5C5-06F2-4E10-AD5C-235CE93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415B-7C9F-4ED3-A788-35538678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3B87A-42F2-48BE-858D-A9B150F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DA65F-189F-444F-BA31-94110076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2F3CC-8DDE-43EB-BBFF-23959A9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2BFC-D8E7-4738-9888-E3BFC3A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0E274-5A3E-4B1D-8C4A-09EDC70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0953A-860B-4F7A-9816-BF1DE102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EC72E-109F-42E0-91F7-E9EE8C75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4497F-6A47-4CF1-BCEC-863E290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44270-CA05-4259-973E-026A96FB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763F2-4768-4AF0-94DA-007CC303E01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8C9C2-CA47-4720-9744-B6E940973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AA32E-6636-44D4-BE7E-E1DF1D57EFC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3BAC7-104D-4436-8CA8-D95DDE643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676C0-DE41-4AA9-8CEC-1DE6632103F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197EB-1631-4023-A363-A6DD0E679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513DE-5C32-4743-8051-62A41D5871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AFFC3-BB5E-4F36-9360-2AFCFF905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11B04-FEFB-4538-B733-CBCE6B73FD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3565D-5578-4328-960E-64B07067D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E753F-0B18-432C-A8E4-2A13FDD2B9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8CEDB-BBBA-4CF6-8412-B6F14D8F5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01D80-16A9-428A-B2F5-2E46297A53D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6A7C5-51D0-40E6-9FD6-C8CE90C83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C931E-F77E-40B9-A36D-7BB7536D22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139F4-3353-4D40-B5FD-5141675E1F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B6E73-C3A7-463E-A5F8-B4A286C379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14ABB-27D3-4515-AC53-E7D4BE1A9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CC7A5-CD8C-4DF9-9525-F0A84EB31EC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C8F40-ACBB-4FE8-A8B5-82493198C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69314-513A-4DF1-9757-8C401F34A7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5A92B-8DF7-427F-B4B2-D2CC43DB1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49075-629E-44CD-90D3-4E31E78D2F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0F20B-EEB9-4A2E-AE7C-9B3B55BDB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471FF-C62F-48D8-877D-4123BF9D76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267D1-BC05-4BA6-B314-9161065D7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F7551-6BC7-40B6-80D6-85398EFF407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EA7B4-9FB7-4AFE-B587-D6F36E709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E2DF5-2689-4FF4-9467-1DD2828BB0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05815-6974-4760-8667-AA1BC48ED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A6BA2-C182-4204-8CA6-744767D65D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01504-B679-49C0-8B16-2B422F45C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D7052-5E57-4720-A12A-CFF260B2079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649AC-420A-4C45-B11D-593B1955D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A593B-2669-42C7-B452-D1BB1F7799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D07B0-4D24-40AE-B62A-E2D1A9536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E5A39-F017-445D-91F1-5861AF5ECE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B1695-85CE-4DB1-BF01-4A81EF03F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- Special Situ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407808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Sharipah Fotimah Syed Abdulla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Family Medicine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Klinik Kesihatan Bandar Mentakab, Pah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Norzaihan Hass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Family Medicine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Klinik Kesihatan Bandar Kota Bharu, Kelan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52254-329C-4E78-A2A1-2495BE953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10245-3524-4C48-B734-2DAAABFD5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600120" y="2038320"/>
            <a:ext cx="80154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28560" y="1800000"/>
            <a:ext cx="78868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 in a sick child or adolescent with diabetes should be considered as a sign of insulin deficiency until proven otherwise (blood ketones are preferred over urine ketones if available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 for a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 between 4 &amp; 10 mmol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ketones below 0.6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5C89E-556F-48AE-BC13-20352A1BD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32D92-517D-49EB-A15C-1EF676E5D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Picture 4" descr=""/>
          <p:cNvPicPr/>
          <p:nvPr/>
        </p:nvPicPr>
        <p:blipFill>
          <a:blip r:embed="rId1"/>
          <a:stretch/>
        </p:blipFill>
        <p:spPr>
          <a:xfrm>
            <a:off x="509760" y="1519200"/>
            <a:ext cx="82040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12D47-2EFC-4FA4-9332-21D52B4EC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503280" y="2187720"/>
            <a:ext cx="81374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Hypoglycaemi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09F29-2838-4C54-B918-A3FB400F7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28560" y="1825200"/>
            <a:ext cx="7886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ypoglycaemia is common among patients with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efined as low BG level that predisposes patients to potential h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 single numerical definition of hypoglycaemia for all patients &amp; sit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ften defined as a BG level of &lt;3.6 mmol/L but the threshold for initiation of treatment is 3.9 mmol/L because of the risk of it falling further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407D9-3467-4EF9-8B7D-E31E02818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ypoglycaemia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28560" y="1812960"/>
            <a:ext cx="78868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glycaemia can be symptomatic or asymptoma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s &amp; symptoms of hypoglycaemia are due to adrenergic activation &amp; neuroglycopa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D941F-0A4E-43DD-88B0-9A319BBD7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DF7E7-244C-4E22-900A-CE7FB6E65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1550880" y="407880"/>
            <a:ext cx="60850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92C68-8C3F-47B0-A89C-689645398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6" name="Picture 3" descr=""/>
          <p:cNvPicPr/>
          <p:nvPr/>
        </p:nvPicPr>
        <p:blipFill>
          <a:blip r:embed="rId1"/>
          <a:stretch/>
        </p:blipFill>
        <p:spPr>
          <a:xfrm>
            <a:off x="452520" y="1905120"/>
            <a:ext cx="8238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6364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28560" y="1837800"/>
            <a:ext cx="788688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of hypoglycaemia treatment is to restore the BG to normal level (5.6 mmol/L)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DC8E8-181C-49B2-9424-A33801604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16524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understand the management of T1DM patients during sick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recognise hypoglycaemia &amp; give appropriate management in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advise on eating out to patients with T1DM &amp; their careg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understa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sting in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isks of fasting for children &amp; adolescents with T1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460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anagement of T1DM patients who intend to fast during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597F3-0B46-4B8A-BAE0-1E0317FDF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ld/moderate 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28560" y="1800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G level is low (3.3 - 3.9 m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sympto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Oral glucose of 0.3 g/kg (1 tablespoon≈10 g &amp; 1 teaspoon≈5 g) will increase the BG level suffici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heck BG after 10 - 15 minu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peat oral glucose administration if there is no impr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mplex carbohydrates in the form of fruit, bread, cereal or milk can be consumed to prevent recurrent hypoglycaem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D375F-7853-46AA-8B03-840CC5D00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ld/moderate hypoglycaemi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28560" y="1825560"/>
            <a:ext cx="78868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 should carry with them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ypok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ing of glucose sachet or glucose tablet &amp; a serving of complex carbohydrates such as bis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E8358-8B8E-40A6-8FEC-7AFD04398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vere 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28560" y="1812960"/>
            <a:ext cx="78868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vent of low BG requiring assistance of another person to reverse the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in young children, even mild to moderate hypoglycaemia often require assistance of caregiv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hypoglycaemia in paediatric population is defined as an event associated with severe neuroglycopaenia which usually results in coma or seizure &amp; requires parenteral therapy (SC/IM glucagon or IV glucos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FA2F5-388B-4DE3-B08C-96EB79477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4BD20-F5FA-4DD2-A09C-F1B571339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444600" y="2525760"/>
            <a:ext cx="8262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vere hypoglycaemi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28560" y="1825560"/>
            <a:ext cx="788688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glucagon (SC/IM) should be accessible to all patients &amp; caregivers, particularly if there is high risk of severe hypoglycaemia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n its administration is impor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38400-10B4-4700-B1B7-BE18C5DC7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cturnal hypoglycaem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in patients with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undetected by the patients or their careg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sleep, the counter regulatory responses to hypoglycaemia are decreased in patients with T1DM who are less likely to be awakened by this con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2C681-0812-4886-9FF5-151E9506C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3F71D-652E-4BFE-95D5-553DA4E88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357120" y="1990800"/>
            <a:ext cx="84297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2C318-18DB-46CF-A90F-8647D98CD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357120" y="1271520"/>
            <a:ext cx="84297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Eating ou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9DC4E-1224-4702-BDAC-D25AB1988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Eating ou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628560" y="1800360"/>
            <a:ext cx="7886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hildren &amp; adolescents with T1DM should be allowed to eat out at restaurant, festival, parties or “kenduri” to the same extent as their frie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EDE18-3559-4A2C-98A1-BD373FE37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SICK DA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B72C4-C63B-40AD-BC10-766E4E81F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Eating out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8560" y="177624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ensure target BG range is maintained when eating out, patients &amp; their caregivers should practise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3, 1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arb cou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nsulin adjustment based on t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food consu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evel of physica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3. Hanas R. London: Class Publishing;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4. International Society for Pediatric and Adolescent Diabetes (ISPAD). Zeist: Medforum; 2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FDB25-DB44-47F3-9DE5-BD552F016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Advice on eating ou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80600" y="1800360"/>
            <a:ext cx="819324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vice to patients withT1DM &amp; their caregiver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3, 1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ccasional sugary food treats may not provoke hyperglycaemia 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180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hysical activity levels are h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180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sulin dose adjustments are made based on carbohydrate counting, ICR &amp; IS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dditional (rapid-acting or short-acting) insulin may be useful to prevent or treat hyperglyca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37C50-95FC-4429-8C28-5C36B7C36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Advice on eating out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93560" y="1825560"/>
            <a:ext cx="820584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vice to patients withT1DM &amp; their caregiver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3, 1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G level should be checked before &amp; after eating out, &amp; the results documented as this will guide patients &amp; their caregivers in planning for similar future occa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hen eating out, the meal may be served later than usual; to avoid hypoglycaemia, adjust the administration of meal insulin in accordance to the timing of carbohydrate 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A5351-D777-4228-ADA4-41CA1E3B9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DA934-B3E3-4EB5-846F-7B1DA207D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Picture 2" descr=""/>
          <p:cNvPicPr/>
          <p:nvPr/>
        </p:nvPicPr>
        <p:blipFill>
          <a:blip r:embed="rId1"/>
          <a:stretch/>
        </p:blipFill>
        <p:spPr>
          <a:xfrm>
            <a:off x="347760" y="2476440"/>
            <a:ext cx="844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3333ff"/>
                </a:solidFill>
                <a:latin typeface="Calibri"/>
              </a:rPr>
              <a:t>Fasting during Ramadha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47322-CF74-4159-B086-532C35512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40140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Fasting during Ramad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28560" y="12970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asting from dawn till sunset, during the month of Ramadan is obligatory for Muslims. During this period, one has to abstain from eating &amp; drin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slam has allowed various categories of people to be exempted from fasting, for example young children, sick people &amp; travell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ajor risks associated with fasting in diabetic patients include hypoglycaemia, hyperglycaemia, DKA, dehydration &amp; thromb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vertheless, many patients with T1DM insist on fasting during Ramad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ose who intend to fast should have good glycaemic control, perform regular self-monitoring &amp; be under professional supervi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00FE4-87A6-4546-B1D3-3D79838BF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401760"/>
            <a:ext cx="788688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Fasting during Ramadan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628560" y="1407960"/>
            <a:ext cx="7886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s with T1DM &amp; the following features are at very high risk for complications during fasting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vere hypoglycaemia within 3 months prior to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istory of recurrent hypoglyca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ypoglycaemia un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oor glycaemic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KA within 3 months prior to Rama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ute 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hronic di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se patients are discouraged from fas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5. Azad K, et al. Indian J Endocrinol Metab 2012;16(4):516-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3B6DC-1800-4983-9632-8F28BC5FF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28560" y="1800000"/>
            <a:ext cx="7886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nagement plan for patients with T1DM who intend to fast should be individualised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madan-focused patient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-Ramadan med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et &amp;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xercise &amp; physical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onitoring glycaemic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ndications to break the 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nsulin regim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F032F-0963-4171-A265-12C3A7229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a. Ramadan-focused patient educ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628560" y="2060640"/>
            <a:ext cx="78868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amadan-focused diabetes education includes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eal planning &amp; dietary ad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MB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justment &amp; compliance to insuli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ocus on the causation, early recognition &amp;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nagement of hypoglycaemia, hyperglycaemia, dehydration &amp; impending 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&amp; intensity of 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50CB4-5BD4-4FF3-BEED-8459C01AA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b. Pre-Ramadan medical assess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28560" y="2122560"/>
            <a:ext cx="7886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ferably undertaken 1 - 2 months before the fasting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clude physical status, glycaemic status &amp; appropriate blood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valuation for any acute &amp; chronic complications, &amp; individual risk stratification to identify those not fit to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BCE44-8BF4-46D4-9B5B-256055B17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28560" y="1652400"/>
            <a:ext cx="78868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re are special circumstances when glucose metabolism is significantly altered, requiring additional monitoring of BG &amp;/or adjustment of the patient’s daily insulin do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school or daycare setting  presents the challenges in the management of the patients with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are givers should be provided with clear guidance  on how to manage these special situ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B2B15-6B30-4E58-99A3-F4C3815BA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c. Diet &amp; nutri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28560" y="1800360"/>
            <a:ext cx="7886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ance of large amount of foods rich in carbohydrate &amp; fat during ‘iftar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nsumption of complex carbohydrate (slow-digesting foods) during ‘sahur’ (taken as late as possible) will result in delayed digestion &amp; 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alanced diet with inclusion of fruits, vegetables, lentils, yogurt &amp; cer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beral fluid intake during non-fasting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4B4AF-E491-4D79-8317-B229E5BCC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6364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d. Exercise &amp; physical activi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628560" y="1825560"/>
            <a:ext cx="78868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intain normal level of physical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rigorous exercise during fasting ho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C65AC-9245-4D24-92F6-AD1DA8603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e. Monitoring glycaemic statu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28560" y="1789200"/>
            <a:ext cx="788688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lood testing or insulin injection is allowed during fasting (under Fatwa 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ncourage patients to do frequent SM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heck urine/blood for ketone if BG is high (&gt;14 m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797EF-FB75-4A82-B4A0-437E1AF4D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f. Indications to break the fa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28560" y="1812600"/>
            <a:ext cx="7886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G levels are low (&lt;4 mmol/L) or experiences signs/symptoms of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G level is &gt;16.7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 is un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4E7C8-9DF7-4326-A7B6-7C84AB518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g. Insulin regime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628560" y="1812600"/>
            <a:ext cx="78868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asting during Ramadan in T1DM is safe with adjustment of insulin dose &amp; regular BG monitoring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6, 1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6. Ibrahim AlAlwana, et al. Int J Diabetes Mellit. 2010;2(2):127-1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7. Al-Khawari M, et al. Pediatr Diabetes. 2010;11(2):96-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C54C3-0405-4B11-ACDC-90C439538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Insulin adjustment in patients </a:t>
            </a:r>
            <a:br>
              <a:rPr sz="4400"/>
            </a:b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on basal-bolus regimen</a:t>
            </a:r>
            <a:r>
              <a:rPr b="1" lang="en-MY" sz="44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28560" y="2109960"/>
            <a:ext cx="78868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duce basal insulin by 10 - 20% &amp; further if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rapid-acting insulin with meal &amp; perform carbohydrate coun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f glucose rises above 15 mmol/L, a correcting dose of rapid-acting insulin should be gi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f long-acting &amp; rapid-acting insulin are unavailable, it may be sufficient to use intermediate-acting &amp; short-acting insu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C4EEF-8BA7-4CA1-834E-645ECD7C2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000000"/>
                </a:solidFill>
                <a:latin typeface="Calibri"/>
              </a:rPr>
              <a:t>Insulin adjustment in patients on two-dose insulin regim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28560" y="1544760"/>
            <a:ext cx="7886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Premixed insulins are not recommended for paediatric use.</a:t>
            </a:r>
            <a:r>
              <a:rPr b="0" lang="en-MY" sz="28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 a small study, 60% of patients with T1DM on conventional twice a-day regimen were able to fast safely with proper education &amp; intensive follow-up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s are advised to change their insulin dosages such that they take combined intermediate- &amp; short-acting insulin before iftar (break fast), which is their usual morning dose, &amp; only short-acting insulin before sahur (pre-dawn meal) at a dose of 0.1 - 0.2 IU/kg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500" spc="-1" strike="noStrike">
                <a:solidFill>
                  <a:srgbClr val="000000"/>
                </a:solidFill>
                <a:latin typeface="Calibri"/>
              </a:rPr>
              <a:t>118. Zabeen B, et al. Indian J Endocrinol Metab. 2014;18(1):44-4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7C974-44D5-4E46-96DD-858959E2A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Insulin adjustment in patients on three-dose insulin regimen</a:t>
            </a:r>
            <a:r>
              <a:rPr b="1" lang="en-MY" sz="44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28560" y="2096640"/>
            <a:ext cx="788688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short-acting insulin during sahur &amp; ift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intermediate-acting insulin in the late eve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erform frequent SMBG especi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efore iftar &amp; 3 hours after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efore sahur &amp; 2 hours after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just insulin dose according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03716-1D1C-45E7-BFD9-DDA184AD4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6364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Insulin adjustment in patients </a:t>
            </a:r>
            <a:br>
              <a:rPr sz="4400"/>
            </a:b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on insulin pump</a:t>
            </a:r>
            <a:r>
              <a:rPr b="1" lang="en-MY" sz="4400" spc="-1" strike="noStrike" baseline="30000">
                <a:solidFill>
                  <a:srgbClr val="000000"/>
                </a:solidFill>
                <a:latin typeface="Calibri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628560" y="2122200"/>
            <a:ext cx="78868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asting during Ramadan can be successfully accomplished by patients with T1DM if they are fully educated &amp; metabolically s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st will need to reduce their basal infusion rate while adjusting the bolus doses to cover the sahur &amp; ift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A683F-8100-4939-9807-3C564693D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6A622-E7F1-4B72-A414-C5F7E438E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2" name="Picture 2" descr=""/>
          <p:cNvPicPr/>
          <p:nvPr/>
        </p:nvPicPr>
        <p:blipFill>
          <a:blip r:embed="rId1"/>
          <a:stretch/>
        </p:blipFill>
        <p:spPr>
          <a:xfrm>
            <a:off x="347760" y="2604960"/>
            <a:ext cx="844848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600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28560" y="177624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illnesses, especially those associated with fever &amp; raised BG levels becaus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levels of stress hormones promote gluconeogenesis 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lin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ly, increase ketone body production due to inadequate insulin level leading to increased insulin requ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5D88A-D207-4C27-8F10-9173C468B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439200"/>
            <a:ext cx="7886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28560" y="1371240"/>
            <a:ext cx="7886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avoid complications such as hypoglycaemia or hyperglycaemia, dehydration, impeding ketoacidosis, the diabetic care team should provide clear guidance to children &amp; adolescents with T1DM &amp; their care givers during special situ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G &amp; blood/urine ketone should be monitored more frequent during sick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ever stop insulin during sick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- &amp; post-meal BG should be checked when eating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ensure target BG range is maintained ,the patients &amp; their caregivers should adjust the dose &amp; timing of insulin according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atients with T1DM who intend to fast should receive &amp; follow individualised management pl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FE804-A2CD-494B-B112-76CB60A1E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 Ligh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9C360-A4E1-4D4D-9E68-86A67326C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612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28560" y="1800360"/>
            <a:ext cx="7886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llness associated with vomiting &amp; diarrhoea (e.g. viral gastroenteritis) &amp; decreased food intake, poorer absorption &amp; slower emptying of the stomach or overt diarrhoea with more rapid transit during gastroenteritis may lower BG with the increased possibility of hypoglycaem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E8C07-077F-4DC5-8C86-469D551B0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6238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k da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28560" y="1812600"/>
            <a:ext cx="78868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insulin dose usually needs to be increased when there is fever or intercurrent illness, based on frequent BG &amp; urine/blood ketone measurement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8. International Society for Pediatric and Adolescent Diabetes (ISPAD). Oxford: Wiley  Blackwell;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40E1E-8AFA-4249-BCA9-5DA3C568E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2" descr=""/>
          <p:cNvPicPr/>
          <p:nvPr/>
        </p:nvPicPr>
        <p:blipFill>
          <a:blip r:embed="rId1"/>
          <a:stretch/>
        </p:blipFill>
        <p:spPr>
          <a:xfrm>
            <a:off x="604800" y="611280"/>
            <a:ext cx="7934400" cy="5492520"/>
          </a:xfrm>
          <a:prstGeom prst="rect">
            <a:avLst/>
          </a:prstGeom>
          <a:ln w="0">
            <a:noFill/>
          </a:ln>
        </p:spPr>
      </p:pic>
      <p:sp>
        <p:nvSpPr>
          <p:cNvPr id="83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B30D3-7D3A-49CE-A1A0-C0A8CC39D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"/>
          <p:cNvPicPr/>
          <p:nvPr/>
        </p:nvPicPr>
        <p:blipFill>
          <a:blip r:embed="rId1"/>
          <a:stretch/>
        </p:blipFill>
        <p:spPr>
          <a:xfrm>
            <a:off x="527040" y="647640"/>
            <a:ext cx="8172360" cy="760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527040" y="1407960"/>
            <a:ext cx="8172360" cy="4745160"/>
          </a:xfrm>
          <a:prstGeom prst="rect">
            <a:avLst/>
          </a:prstGeom>
          <a:ln w="0">
            <a:noFill/>
          </a:ln>
        </p:spPr>
      </p:pic>
      <p:sp>
        <p:nvSpPr>
          <p:cNvPr id="835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AB121-5C75-4FB6-A0F9-6C8E8CDA0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7-01-09T04:47:25Z</dcterms:modified>
  <cp:revision>106</cp:revision>
  <dc:subject/>
  <dc:title>PowerPoint Presentation</dc:title>
</cp:coreProperties>
</file>